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E3D1-2738-4E71-85A0-B69022E91D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1A65-E4E8-456C-8FC7-F214AB0E01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EEFF-9120-4498-81E5-4879C96234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4DE6-3119-4DCD-934B-424C3E4008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4B41-7591-49B6-9F34-97E66E2A1E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3955-76B7-4AD3-89F7-7F8255EAC1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A04E-568D-4305-92F0-FDB5EA8518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B084-21ED-4C0C-B2C3-5E8EE12EEA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CAC9-1D16-4A91-9B21-B605210348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CE6F-8377-4044-9953-DC1446E5B6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1457-CAA0-4718-B74A-696EB0F36D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D85D-E58A-4562-979C-2CEA2DF48E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195E-06F5-47C4-BDBA-32D9EB7BC0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D0EC-3CBC-4DB8-BDA0-507B166027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BDCE-399F-48D1-95B4-74A7D7E5E6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E0B4-B904-4A9F-992F-C9450886B0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64D8-81E1-45C4-878A-0D989D5CED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123B-9DC1-43EC-82C6-5271EA8959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9961-334B-44EC-8553-5FDCCECC59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83E1-BBE6-495A-8FF4-FF4ED035CE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D95D-8CEF-4A7F-B107-0AFFFACFA2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4695-84AB-41BC-9359-683075FE38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112E-962B-4EDA-A9B3-7A6426BF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22FC-5C55-4086-95BE-5605DC7A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1251-4B62-4206-AA85-755516E2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24DC-8F25-433D-9A46-3B283ED2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8577-3F65-4224-8338-1826EB28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8D1A-0DEE-4C66-8686-266450C4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4062-3255-45FA-979D-0C96469A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B9E3-3180-426E-8BCF-A2204C5E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7B32-06F5-4982-8B62-E92C4A3A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0C44-9834-4BD0-AA99-EBAEF61F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B8B3-A283-45B4-80AA-51901C39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710F-83C4-4CF6-B1C9-D693B50D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A7D7-C384-4526-85AC-F10CC28C13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idos.ru/journal/2005/1212.htm" TargetMode="External"/><Relationship Id="rId2" Type="http://schemas.openxmlformats.org/officeDocument/2006/relationships/hyperlink" Target="http://festival.1september.ru/articles/574903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9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нравственных установок учащихся на уроках филологического цикл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bfbf"/>
                </a:solidFill>
                <a:latin typeface="Arial"/>
              </a:rPr>
              <a:t>Токранов Николай Валерьеви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bfbf"/>
                </a:solidFill>
                <a:latin typeface="Arial"/>
              </a:rPr>
              <a:t>учитель русского языка и литературы МБОУ «Средняя школа №111» Советского района г.Каз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716D-5E98-4A1B-B4B3-D5F53EB0F4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Organization Chart 7"/>
          <p:cNvGrpSpPr/>
          <p:nvPr/>
        </p:nvGrpSpPr>
        <p:grpSpPr>
          <a:xfrm>
            <a:off x="0" y="98280"/>
            <a:ext cx="9143640" cy="6606720"/>
            <a:chOff x="0" y="98280"/>
            <a:chExt cx="9143640" cy="6606720"/>
          </a:xfrm>
        </p:grpSpPr>
        <p:cxnSp>
          <p:nvCxnSpPr>
            <p:cNvPr id="79" name="_s2052"/>
            <p:cNvCxnSpPr>
              <a:stCxn id="80" idx="1"/>
              <a:endCxn id="81" idx="2"/>
            </p:cNvCxnSpPr>
            <p:nvPr/>
          </p:nvCxnSpPr>
          <p:spPr>
            <a:xfrm rot="10800000">
              <a:off x="6681240" y="3873600"/>
              <a:ext cx="352080" cy="235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2053"/>
            <p:cNvCxnSpPr>
              <a:stCxn id="83" idx="1"/>
              <a:endCxn id="81" idx="2"/>
            </p:cNvCxnSpPr>
            <p:nvPr/>
          </p:nvCxnSpPr>
          <p:spPr>
            <a:xfrm rot="10800000">
              <a:off x="668124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2054"/>
            <p:cNvCxnSpPr>
              <a:stCxn id="85" idx="1"/>
              <a:endCxn id="86" idx="2"/>
            </p:cNvCxnSpPr>
            <p:nvPr/>
          </p:nvCxnSpPr>
          <p:spPr>
            <a:xfrm rot="10800000">
              <a:off x="3867480" y="3873600"/>
              <a:ext cx="352080" cy="235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2055"/>
            <p:cNvCxnSpPr>
              <a:stCxn id="88" idx="1"/>
              <a:endCxn id="86" idx="2"/>
            </p:cNvCxnSpPr>
            <p:nvPr/>
          </p:nvCxnSpPr>
          <p:spPr>
            <a:xfrm rot="10800000">
              <a:off x="386748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2056"/>
            <p:cNvCxnSpPr>
              <a:stCxn id="90" idx="1"/>
              <a:endCxn id="91" idx="2"/>
            </p:cNvCxnSpPr>
            <p:nvPr/>
          </p:nvCxnSpPr>
          <p:spPr>
            <a:xfrm rot="10800000">
              <a:off x="105408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2057"/>
            <p:cNvCxnSpPr>
              <a:stCxn id="81" idx="0"/>
              <a:endCxn id="93" idx="2"/>
            </p:cNvCxnSpPr>
            <p:nvPr/>
          </p:nvCxnSpPr>
          <p:spPr>
            <a:xfrm flipV="1">
              <a:off x="6681960" y="2457360"/>
              <a:ext cx="2880" cy="472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2058"/>
            <p:cNvCxnSpPr>
              <a:stCxn id="86" idx="0"/>
              <a:endCxn id="95" idx="2"/>
            </p:cNvCxnSpPr>
            <p:nvPr/>
          </p:nvCxnSpPr>
          <p:spPr>
            <a:xfrm flipV="1" rot="16200000">
              <a:off x="2928600" y="1989720"/>
              <a:ext cx="472320" cy="1407240"/>
            </a:xfrm>
            <a:prstGeom prst="bentConnector3">
              <a:avLst>
                <a:gd name="adj1" fmla="val 261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2059"/>
            <p:cNvCxnSpPr>
              <a:stCxn id="91" idx="0"/>
              <a:endCxn id="95" idx="2"/>
            </p:cNvCxnSpPr>
            <p:nvPr/>
          </p:nvCxnSpPr>
          <p:spPr>
            <a:xfrm flipH="1" flipV="1" rot="5400000">
              <a:off x="1521720" y="1989720"/>
              <a:ext cx="472320" cy="1407240"/>
            </a:xfrm>
            <a:prstGeom prst="bentConnector3">
              <a:avLst>
                <a:gd name="adj1" fmla="val 261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2060"/>
            <p:cNvCxnSpPr>
              <a:stCxn id="93" idx="0"/>
              <a:endCxn id="98" idx="2"/>
            </p:cNvCxnSpPr>
            <p:nvPr/>
          </p:nvCxnSpPr>
          <p:spPr>
            <a:xfrm flipV="1" rot="16200000">
              <a:off x="5390280" y="222120"/>
              <a:ext cx="472320" cy="2110680"/>
            </a:xfrm>
            <a:prstGeom prst="bentConnector3">
              <a:avLst>
                <a:gd name="adj1" fmla="val 262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2061"/>
            <p:cNvCxnSpPr>
              <a:stCxn id="95" idx="0"/>
              <a:endCxn id="98" idx="2"/>
            </p:cNvCxnSpPr>
            <p:nvPr/>
          </p:nvCxnSpPr>
          <p:spPr>
            <a:xfrm flipH="1" flipV="1" rot="5400000">
              <a:off x="3280320" y="222120"/>
              <a:ext cx="472320" cy="2110680"/>
            </a:xfrm>
            <a:prstGeom prst="bentConnector3">
              <a:avLst>
                <a:gd name="adj1" fmla="val 262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2062"/>
            <p:cNvSpPr/>
            <p:nvPr/>
          </p:nvSpPr>
          <p:spPr>
            <a:xfrm>
              <a:off x="3516840" y="982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Читательск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рамот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63"/>
            <p:cNvSpPr/>
            <p:nvPr/>
          </p:nvSpPr>
          <p:spPr>
            <a:xfrm>
              <a:off x="1406520" y="151380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пора на тек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64"/>
            <p:cNvSpPr/>
            <p:nvPr/>
          </p:nvSpPr>
          <p:spPr>
            <a:xfrm>
              <a:off x="5626800" y="151380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пора н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нетекстово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н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2065"/>
            <p:cNvSpPr/>
            <p:nvPr/>
          </p:nvSpPr>
          <p:spPr>
            <a:xfrm>
              <a:off x="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йти и извл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66"/>
            <p:cNvSpPr/>
            <p:nvPr/>
          </p:nvSpPr>
          <p:spPr>
            <a:xfrm>
              <a:off x="281340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нтегрирова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нтерпретиров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067"/>
            <p:cNvSpPr/>
            <p:nvPr/>
          </p:nvSpPr>
          <p:spPr>
            <a:xfrm>
              <a:off x="562680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 оцени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сообщение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68"/>
            <p:cNvSpPr/>
            <p:nvPr/>
          </p:nvSpPr>
          <p:spPr>
            <a:xfrm>
              <a:off x="1406520" y="434556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звл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69"/>
            <p:cNvSpPr/>
            <p:nvPr/>
          </p:nvSpPr>
          <p:spPr>
            <a:xfrm>
              <a:off x="4219920" y="4345560"/>
              <a:ext cx="2109960" cy="9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формирова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щее понима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екс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70"/>
            <p:cNvSpPr/>
            <p:nvPr/>
          </p:nvSpPr>
          <p:spPr>
            <a:xfrm>
              <a:off x="4219920" y="5761440"/>
              <a:ext cx="2109960" cy="9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олковать тек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71"/>
            <p:cNvSpPr/>
            <p:nvPr/>
          </p:nvSpPr>
          <p:spPr>
            <a:xfrm>
              <a:off x="7033680" y="434556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ценить содержа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ие текс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072"/>
            <p:cNvSpPr/>
            <p:nvPr/>
          </p:nvSpPr>
          <p:spPr>
            <a:xfrm>
              <a:off x="7033680" y="576144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ценить форм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екст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способов самостоятельного анализа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Вопросы анке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1. Составляю план                       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2. Выписываю сложные места                                        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3. Запоминаю весь текст или его части                         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4. Разбираю сложные места при помощи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взрослых или дополнительной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5. Читаю текст несколько раз                                         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6. Составляю таблицу или схему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7. Легко подбираю примеры к      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предложенному тек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8. Легко пересказываю текст учебника                           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своими сло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Репрезентативная выборка составила 50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2f2f2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41E9-34EF-49FE-9A84-49FADA7464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иагностическая карта уровней восприятия текста Ф.Абрамова «О чем плачут лошади»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учащихся 7-го класса (по Н.Д.Молдавской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905120"/>
          <a:ext cx="8305920" cy="4227480"/>
        </p:xfrm>
        <a:graphic>
          <a:graphicData uri="http://schemas.openxmlformats.org/drawingml/2006/table">
            <a:tbl>
              <a:tblPr/>
              <a:tblGrid>
                <a:gridCol w="1703520"/>
                <a:gridCol w="2011320"/>
                <a:gridCol w="2293920"/>
                <a:gridCol w="2297160"/>
              </a:tblGrid>
              <a:tr h="335412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тографи-ческое  вос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сюжетно-событийной осно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основе осмысления композиционных связей без понимания образа ав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композиционной основе с ограниченным пониманием образа ав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336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6B45-4F94-4E8A-852F-15057DF2E3F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8600" y="24444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Диагностика уровня усвоения учащимися 7-го класса содержания нравственных понятий в ходе анализа текста  Ф.Абрамова «О чем плачут лошади» (по Павловой И.И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1600200"/>
          <a:ext cx="8153280" cy="4595760"/>
        </p:xfrm>
        <a:graphic>
          <a:graphicData uri="http://schemas.openxmlformats.org/drawingml/2006/table">
            <a:tbl>
              <a:tblPr/>
              <a:tblGrid>
                <a:gridCol w="2271600"/>
                <a:gridCol w="1604880"/>
                <a:gridCol w="1470240"/>
                <a:gridCol w="1434960"/>
                <a:gridCol w="1371600"/>
              </a:tblGrid>
              <a:tr h="731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яемое по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вильное 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глубо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оним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триот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ернационализ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лектив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удолюб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бежд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жест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4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ро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6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ви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ветств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ум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циональное достоин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с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96AC-210D-4057-A248-C10A1BBEED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ческий инструмент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ид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вар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 с тек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речи (устной и письмен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Формы работы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седа (репродуктивная и эвристическ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сп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следован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ение в виртуальном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6199-55CE-4A55-A6CC-74D80EF5972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ческий инструмент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хнологии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развития критического мышления через чтение (способность ставить новые вопросы, вырабатывать разнообразные аргументы, принимать независимые продуманные реше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поэтапного формирования умений уч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формирования «вдумчивого читателя» (инсерт, рафт, «толстые» и «тонкие» вопросы, чтение с пометами, класт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СО, Г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проблем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ейс-стади 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E72E-B721-4A4E-B5EC-D6CD7D9D9CC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ластер «Образная система в повести А.И.Куприна «Олес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1676520" y="1828800"/>
            <a:ext cx="14475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ллиген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533520" y="2590920"/>
            <a:ext cx="14475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реш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762120" y="3886200"/>
            <a:ext cx="16002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способ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 самопожертвов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5715000" y="1752480"/>
            <a:ext cx="16002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 самоотверж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юб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7010280" y="2590920"/>
            <a:ext cx="12956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7162920" y="40384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стот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е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2286000" y="495288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в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5029200" y="4876920"/>
            <a:ext cx="1828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мира прир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590920" y="3200400"/>
            <a:ext cx="15238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в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моф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4876920" y="3276720"/>
            <a:ext cx="1371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3581280" y="609588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т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2"/>
          <p:cNvSpPr/>
          <p:nvPr/>
        </p:nvSpPr>
        <p:spPr>
          <a:xfrm flipH="1" flipV="1">
            <a:off x="2590920" y="27432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3"/>
          <p:cNvSpPr/>
          <p:nvPr/>
        </p:nvSpPr>
        <p:spPr>
          <a:xfrm flipH="1" flipV="1">
            <a:off x="1828440" y="335232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4"/>
          <p:cNvSpPr/>
          <p:nvPr/>
        </p:nvSpPr>
        <p:spPr>
          <a:xfrm flipH="1">
            <a:off x="2209320" y="39625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5"/>
          <p:cNvSpPr/>
          <p:nvPr/>
        </p:nvSpPr>
        <p:spPr>
          <a:xfrm>
            <a:off x="297180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6"/>
          <p:cNvSpPr/>
          <p:nvPr/>
        </p:nvSpPr>
        <p:spPr>
          <a:xfrm flipV="1">
            <a:off x="5791320" y="25905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7"/>
          <p:cNvSpPr/>
          <p:nvPr/>
        </p:nvSpPr>
        <p:spPr>
          <a:xfrm flipV="1">
            <a:off x="6172200" y="3352320"/>
            <a:ext cx="9907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8"/>
          <p:cNvSpPr/>
          <p:nvPr/>
        </p:nvSpPr>
        <p:spPr>
          <a:xfrm>
            <a:off x="6248520" y="411480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601992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048120" y="58672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4"/>
          <p:cNvSpPr/>
          <p:nvPr/>
        </p:nvSpPr>
        <p:spPr>
          <a:xfrm flipV="1">
            <a:off x="5410080" y="5790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горитм формирования навыка «вдумчивого»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а главная мысль абза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ите ключевые слова и словосочетания в данном отрыв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связана главная мысль данного абзаца с содержанием предыдущего абза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 чем предположительно пойдет речь в следующем абзаце?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059E-E5F9-41DA-B342-AFBA4703F7A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Object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6988320" cy="4775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межуточная диагно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6"/>
          <p:cNvGraphicFramePr/>
          <p:nvPr/>
        </p:nvGraphicFramePr>
        <p:xfrm>
          <a:off x="4495680" y="914400"/>
          <a:ext cx="4586400" cy="32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914400"/>
                    <a:ext cx="4586400" cy="32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9C77-8603-4F37-9C60-B402C7A2242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228600" y="2362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928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Рисунок 4" descr=""/>
          <p:cNvPicPr/>
          <p:nvPr/>
        </p:nvPicPr>
        <p:blipFill>
          <a:blip r:embed="rId1"/>
          <a:srcRect l="30436" t="0" r="22135" b="0"/>
          <a:stretch/>
        </p:blipFill>
        <p:spPr>
          <a:xfrm>
            <a:off x="60948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туальность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деральный государственный стандарт основного общего образования по русскому языку и литературе определяет главными целями изучения предметов формирование духовно развитой личности, обладающей гуманистическим мировоззрением, чувством патриотизма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Методологической основой разработки и реализации федерального государственного образовательного стандарта общего образования является концепция духовно-нравственного развития и воспитания личности гражданина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1E60-776B-40D9-B08A-C77DD034CA5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тературно-музыкальная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удия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17 кабине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сские народные пе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сский роман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ворчество бардов -шестидеся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ходные пе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ременные рок-исполнител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Arial"/>
              </a:rPr>
              <a:t>Жизнь, судьба, эпох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После уроков2"/>
          <p:cNvPicPr/>
          <p:nvPr/>
        </p:nvPicPr>
        <p:blipFill>
          <a:blip r:embed="rId1"/>
          <a:stretch/>
        </p:blipFill>
        <p:spPr>
          <a:xfrm>
            <a:off x="6362640" y="121932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После уроков3"/>
          <p:cNvPicPr/>
          <p:nvPr/>
        </p:nvPicPr>
        <p:blipFill>
          <a:blip r:embed="rId2"/>
          <a:stretch/>
        </p:blipFill>
        <p:spPr>
          <a:xfrm>
            <a:off x="5105520" y="2971800"/>
            <a:ext cx="2590560" cy="1941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шкид3"/>
          <p:cNvPicPr/>
          <p:nvPr/>
        </p:nvPicPr>
        <p:blipFill>
          <a:blip r:embed="rId3"/>
          <a:stretch/>
        </p:blipFill>
        <p:spPr>
          <a:xfrm>
            <a:off x="6248520" y="4648320"/>
            <a:ext cx="259056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межуточная диагнос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атриотизм для меня - понятие двойственное. С одной стороны, в нём много общественного, с другой, что-то личное, сво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ыть патриотом не значит везде и всюду хвалить свою страну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Достоинство – понятие обширное. Нужно быть достойным своей семьи и своей страны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Толерантность – это не просто эффектное слово. Это работа на каждый день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едеральный государственный образовательный стандарт основного общего образования /Министерство образования и науки РФ.- М.: Просвещение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ундаментальное ядро содержания общего образования /Под ред. В.В.Козлова, А .М. Кондакова .- М.: Просвещение, 20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Хуторской А.В. Технология проектирования ключевых и предметных компетенций [Электронный ресурс] // Режим доступ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idos.ru/journal/2005/1212.htm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урьянова А.В. Компетентностный подход в образовании [Электронный ресурс] // Режим доступ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estival.1september.ru/articles/574903/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левко Г.К. Современные образовательные технологии. Учебное пособие. М.: Народное образование, 1998, 25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.Мередит, Ч.Темпл, Д.Стил, «Воспитание  вдумчивых  читателей»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.О.Загашева «Заметки на полях. Пример занятия, направленного на развитие критического мышления учащихся на основе стратегии «Условные значки» ( «Библиотека в школе», 2004, №18, с. 10-13)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каткин М.Н. Проблемы современной дидактики. М. Педагогика 198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хмутов М.И. Организация проблемного обучения М. Педагогика 197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0E97-4D71-4200-BBDE-1DC93507F34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з научно-методической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учно-методической литературе (А.В. Хуторской, В.В.Краевский, А.В.Гурьянова, И.А.Зимняя),  несмотря на наличие нескольких  подходов, приоритетными опреде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нностно-смыслов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щекульту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бно-познав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муник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о-труд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етенции личностного самосовершен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E98C-66C2-4F02-8835-4EF3AD8378C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 и задачи педагоги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ирование ценностно-смысловых, нравственных установок школьников в образовательном пространстве в  предметной области «Русский язык и литерату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 программно-методического сопровождения предметной об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уктуризация ценностных установок в соответствии с возрастными особенностями уча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ление тезауруса нравственных понятий  для введения в учебное  поле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явление эффективных педагогических техник работы с учебным текстом с целью актуализации в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 сформированности нравственных установок 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F584-7DA4-4880-B5E6-4695D989739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дметные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вести к усвоению и осознанию основных нравственных пон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вести к пониманию нравственных проблем, поднятых в русской и зарубежной литера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ь навыки критического мыш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ь навыки принятия коллективных и самостоятельных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CC36-6944-4BDE-9F01-D29EFB939FC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водная диагно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седы с учащимися в урочное и внеурочное вре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блю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ос роди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кет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 литературных предпочтений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 творческих работ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анирование аккаунтов в социальных сет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4028"/>
          <p:cNvPicPr/>
          <p:nvPr/>
        </p:nvPicPr>
        <p:blipFill>
          <a:blip r:embed="rId1"/>
          <a:stretch/>
        </p:blipFill>
        <p:spPr>
          <a:xfrm>
            <a:off x="6108840" y="4286160"/>
            <a:ext cx="2340000" cy="3510000"/>
          </a:xfrm>
          <a:prstGeom prst="rect">
            <a:avLst/>
          </a:prstGeom>
          <a:ln w="0">
            <a:noFill/>
          </a:ln>
        </p:spPr>
      </p:pic>
      <p:sp>
        <p:nvSpPr>
          <p:cNvPr id="6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2660-B9F3-495C-8F96-811CF85FCDD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разец диагно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bbe0e3"/>
                </a:solidFill>
                <a:latin typeface="Arial"/>
              </a:rPr>
              <a:t>Анкетирование</a:t>
            </a: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Какую бы тему ты выбрал для работы над домашним сочинен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чести в повести А.С. Пушкина «Капитанская доч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ческая эпоха в повести А.С. Пушкина «Капитанская доч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свободы в поэме М.Ю.Лермонтова «Мцыр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вод: дети выбирают конкретную тему, не подразумевающую проявления собственной позиции  и критичности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5384-2361-4E1F-B5A8-9C4AF0A5002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0" y="1065240"/>
          <a:ext cx="8326440" cy="53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5240"/>
                    <a:ext cx="8326440" cy="53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5F32-4B3F-4DAC-AACB-4ABD2ABC435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609480" y="990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ие эмоциональной 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чностный смысл изучаемого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ый эмоциональный фон учебных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ди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пер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чувств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D8B5-7F44-4955-9B2A-EA0AD85A5AC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7:40:06Z</dcterms:created>
  <dc:creator>Николай</dc:creator>
  <dc:description/>
  <dc:language>en-US</dc:language>
  <cp:lastModifiedBy>user</cp:lastModifiedBy>
  <dcterms:modified xsi:type="dcterms:W3CDTF">2012-09-25T04:36:20Z</dcterms:modified>
  <cp:revision>1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